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BD7-D9F8-4A8C-A4CF-B5745322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A00-6DFE-41D0-B78D-5B987BBE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2BD-711E-477C-9C76-2525EC21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798-8399-4B21-8744-74F5B230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645-7188-4489-86E8-08660AD0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BB4-40B1-4B6A-BD66-C99A6679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9F5-CA98-43BE-8883-91B21ED4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64E-0E66-4D2E-AF3C-A71C9EDD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C62-6E0A-453D-8D62-747F28E4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A53-7F21-44CE-9DF5-B3B70325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4AA-4085-421A-9B05-561FA71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CC7-18F7-4BEC-8879-17720B92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FEEA-D5D0-420E-85C4-1F84A3D2C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!CODY DUNCA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3048120" y="762120"/>
            <a:ext cx="2819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clio.missouristate.edu/chuchiak/New%20Webpage%20Images/10056152aAthensAgora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3880" y="762120"/>
            <a:ext cx="63248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t2.gstatic.com/images?q=tbn:ANd9GcRY6JxGqPTTGFrIdvGYZpglhS3uQMkahAKsk1eFdoyHbyGbYtE6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905120" y="762120"/>
            <a:ext cx="5486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t2.gstatic.com/images?q=tbn:ANd9GcRUctjFMHWVoMgNbFy4BBikDcK0T_Mz7vrDhPAMOe9HSWkT7alQ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2895480" y="762120"/>
            <a:ext cx="40388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t3.gstatic.com/images?q=tbn:ANd9GcSyB9tTsn5OTZ5_kSDrcOShDZilqsTVE73O40WlxdJyjXI8QVqc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600200" y="762120"/>
            <a:ext cx="60199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t0.gstatic.com/images?q=tbn:ANd9GcQImSMHIdr0NRtXB-veUii2ikr-vsGBF50rxuDZq8P0V5ttDyp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2438280" y="762120"/>
            <a:ext cx="4572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1.gstatic.com/images?q=tbn:ANd9GcQIVcF7QSbiCbVXGaeQpdSZnCJpei_9COBnnJO8f9Qme75JgEx1FA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990720" y="838080"/>
            <a:ext cx="6858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2.gstatic.com/images?q=tbn:ANd9GcQVfQ0k9rTgPI1XXPy2uuRiFt7zrafF6yk7RmFjPsvuHH-CXI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stoa.files.wordpress.com/2009/03/basileus-assembly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t3.gstatic.com/images?q=tbn:ANd9GcRoEkHc929r3Tg0zvdLcsKLh1ODyFddpqBkPsg3zcHAWLYm67lb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 apart from Greece but kept economic ties wi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t2.gstatic.com/images?q=tbn:ANd9GcQ6WLkm9u37oXmGsGKvFjy9ihG58xAiSzutRD3r7an3oaqJp-R_q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914400" y="762120"/>
            <a:ext cx="7238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0.gstatic.com/images?q=tbn:ANd9GcTq-OzG9-ZXM5qMjCEI852-it0Bwyg7sCc1jkddCjutCKPWTytM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143000" y="762120"/>
            <a:ext cx="7086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t0.gstatic.com/images?q=tbn:ANd9GcSGlSOjovrqQS2Rm-1-SUILBi7-Ow9BXQn2wRoNl3V1Rv2l6PYsV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905120" y="762120"/>
            <a:ext cx="4800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t0.gstatic.com/images?q=tbn:ANd9GcQkDl9iHcHvzBwA4xMmMxAyzq3ekI6IzByEOi-keXcKcxN1POd1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26:05Z</dcterms:modified>
  <cp:revision>90</cp:revision>
  <dc:subject/>
  <dc:title>Ancient Greece</dc:title>
</cp:coreProperties>
</file>